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FE0-B1A7-4B13-B4E5-2F2B35D7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CE2-1ED5-478D-B82D-C466F8ED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134-B6FC-4398-A50D-C1ACA2C1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DB0-1DA7-4B85-98C5-36D2CEED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5D56-DB5B-40F7-B57C-E4BCF53D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4C7D-B696-458C-B120-DA693460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F6B4-1FC9-4D39-9571-56301FCB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385D-BAA3-4A4C-BA22-183306CB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CB70-01F0-4217-89BD-323F5D2C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AF46-93C0-4226-9F16-52FD78F7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EE61-3D20-46D9-A264-BFA0A32E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571-FA60-49C2-86AB-CC9C85D6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767E-CCA9-40FC-8FD3-8021A287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52FB-6759-43B4-AD43-4CDCE77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83AF-0B36-4444-8A82-A8AE8D0A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C39F-1033-4B4F-B4D0-13B62B9B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43EE-B3D3-4F73-B272-14F729B9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323-E86D-44AE-8CC7-B76B130D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745-FE57-4652-9C2E-5DA54BF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B3C-C62A-4802-990C-B99B3EF1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CDB-D1A2-4CC9-B0F9-ADF69F71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DE3-BBE4-47EA-8076-2B3736C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0F8-4A8B-4507-9CB4-2A68351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E83-D3B1-4404-8A61-B6435151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9879-9DF2-41CA-8BDE-64E7A1E743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B7A9-AE8F-470C-AD57-6D1B48EBDF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t’s Review Unit 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fun with the iclickers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24 + 52 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6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7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54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8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B. 24 + 52 = 76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58 + 27 =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7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7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8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8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D. 58 + 27 = 85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77 + 96 =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17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16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15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21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. 77 + 96 = 173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lve.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d has 26 cars. He has 49 trucks. How many cars &amp; trucks does he have altogeth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73 cars and truc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63 cars and truc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75 cars and truc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85 cars and truck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. 26 + 49 = 75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much? D D D N  P  P  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48 c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38 c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43 c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34 c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1676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1676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676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676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1676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1676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676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9144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B. 38 cent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    D    D   N    P    P    P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0, 20, 30, 35, 36, 37, 38 cen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5053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35053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505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of Drawing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ch of the following is a proof drawing for 139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         | | | | |  | | | | · · ·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           · · · · ·  · · · · | | |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 .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| | |  · · · · ·  · · · 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|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· · · · ·  · · · ·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676520" y="2819520"/>
          <a:ext cx="761760" cy="53316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752480" y="3657600"/>
          <a:ext cx="762120" cy="53352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752480" y="4495680"/>
          <a:ext cx="762120" cy="53352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286000" y="5257800"/>
          <a:ext cx="762120" cy="53352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352680" y="5334120"/>
          <a:ext cx="762120" cy="53316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343400" y="5334120"/>
          <a:ext cx="762120" cy="53316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ntinue the number sequence and write the rule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807732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6, 22, 28, ___, ___, ___  rule n ___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34, 40, 46 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+ 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16, 22, 28 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+ 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42, 59, 68 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-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34, 40, 46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- 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85345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16, 22, 28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34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4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4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ru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n + 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Great job!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Now you’re ready for your test on Chapter 5! Congratulations!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8458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. 1 hundred 3 tens 9 ones = 139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5638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   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113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teen hundr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113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hundred thirte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13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hundred thirty o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13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ty one hundr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447920"/>
            <a:ext cx="88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2680" y="1433520"/>
            <a:ext cx="70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81480" y="1447920"/>
          <a:ext cx="990360" cy="51732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6324480" y="152388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| ••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14479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0280" y="12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B. 113 one hundred thirteen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64 + 3 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6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9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61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66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565280" y="262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A. 64 + 3 = 67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. 40 + 50 =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. 1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. 8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. 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. 4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. 40 + 50 = 90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6:06:56Z</dcterms:created>
  <dc:creator>West Shore  School District</dc:creator>
  <dc:description/>
  <dc:language>en-US</dc:language>
  <cp:lastModifiedBy>West Shore  School District</cp:lastModifiedBy>
  <dcterms:modified xsi:type="dcterms:W3CDTF">2009-02-11T17:07:46Z</dcterms:modified>
  <cp:revision>3</cp:revision>
  <dc:subject/>
  <dc:title>Let’s Review Unit 5</dc:title>
</cp:coreProperties>
</file>